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64E-3612-45AC-9922-AC5EAF24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FF5-E364-4376-92B2-A7A62AF5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D3514-234E-43DC-8690-D20D21E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0D66C-1D3B-48A9-B625-AD762636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C27B-E24E-48F9-A31C-565C3791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E8F48-0943-4C28-9E1B-5E1537E8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00378-A82D-4EAA-9260-DEA9F678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B8739-4FED-484A-BA82-4E716E5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B9B0D-A010-418A-AEEC-042917A1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2D914-4095-4977-BD95-445B42BC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5926E-1624-4572-91A1-3AF0479F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68AAF-8F59-48CD-B4F4-1177E36D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FDC-7B20-476B-958D-8606B650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58B2F-3857-413A-A866-AD7E175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69583-C088-4356-AF91-FC8B2C6C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4246E-F66C-4E65-A372-8E443A16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9943B-1983-400D-A175-55474982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DA8C1-67E1-4F8B-81C9-41BE0C46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4ADEA-E6C3-4588-82E3-1E55D99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8AB43-B040-467E-8F0F-B165E73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2DD3C-5980-45FF-BD1C-D9EF18B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477B-D551-4666-AC04-1708103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AC29B-2F09-47FC-9E37-C431D484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450-A256-429E-A46A-F2003C7C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66857-409D-4253-B212-B897E504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6A9D-BAF2-4535-8667-A92D282A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EE38E-0F44-430D-84CB-8D5502C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BDC4-E5F5-4544-B699-68B16DC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F8C0F-49C0-4A0E-8F88-A7F6BDA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9AB73-E266-4702-9CEC-A3A5468A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8230-004D-45F2-B3EF-B4654399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A1EE9-74F4-42F4-B27D-A9EB86A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6CC84-A71E-4B4C-9FD6-D4E96F3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DE19-7742-4B25-8D91-3BBB9ED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1509-60E0-4B65-A0D3-26E76E0E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12A6A-EBAD-44CB-97C7-8EECB6ED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59E11-CF5D-4BC1-86EF-BB3E89E7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FEE70-FA3B-4D2E-A555-5B7599A8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53BD0-E616-4EA8-AA96-DB0F2883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3BADB-611A-4587-839F-5D15CB9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0E566-FCC8-43B3-85A9-D0981C8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4D900-F609-4126-B633-D0B572B8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56D5F-F19F-4E48-BF00-94D6AF7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58C3C-8994-4FE5-A84B-4815DB9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F9B0-256F-4DB7-811A-B37FB7F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D643-7D91-4225-AF42-CAB7FD4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B715C-28D8-40EC-9769-CF0DDDB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72F14-91B3-4ED6-AD34-26BB5BD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85D1F-2712-4D72-A35F-8F57374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46FEB-8A58-407B-A5B1-E7240A28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51917-D39E-4262-B3CE-72D5246C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F8939-82DA-4DB3-83B3-3ABD76AE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728C6-3FA8-4692-B9B5-E1B8794E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BCF23-A9C7-4EDE-95B4-C58814F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51902-F560-4AB0-BE8C-2CB4F313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9303C-A352-4C78-970A-A692C161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BD15-ADC6-47F0-83DF-2DEF4D2D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5B1E1-0A0E-4F67-9A54-B7AB0DD6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C38EA-9EF7-4A34-9C09-319847C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D8E6A-71E9-411B-A06B-DA08C69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44204-F800-4C5C-AB69-4A85052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50EEB-DDCC-42E1-9273-A26790DC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D9960-3F38-41A6-BB8D-226A467D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2D9B4-D6E0-445E-BCB1-33C802E1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623EB-DFAE-48F9-81EB-43CA9D52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79789-D673-4F11-A4DE-D509B34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D2B33-8282-4265-B223-847E68C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C431-C62F-4D9F-B9A4-34E4D0B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9CA18-B468-4951-8D07-3A83C9F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3F763-611B-4BF5-877C-C9B0FD3B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8FA96-CD26-48FE-94E2-6FF131E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F47AE-0739-4675-8255-9620AA9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3C074-089F-4F78-B73C-6E206CB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C3928-0CEC-48CA-A847-D716519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AF8A1-A927-4075-961D-AA81B855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7F44C-51C1-4C2F-B8EB-3DCC7411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A5587-8553-43F7-AAD5-B548B3C0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69C20-3E7D-44C4-AACA-C3E52CAF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0F26-BFCC-43B5-9D1B-8F0A791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573B3-EC39-449C-A257-8E39CE52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84170-82D2-422C-B3E6-2007D8F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53E5E-31C1-44CC-8585-F2A4DC4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C1385-20F4-4FE6-B253-36F0D04E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599F8-9BE2-4940-9D89-B032852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E4C84-6C1C-48D8-9802-5C700D4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F3E4C-DFC2-4575-A87C-ED94F88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4A43F-2C33-45F1-9D6D-D8985D27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BDD7D-A2BE-4331-AE32-7E6A1B7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CC621-6ACF-4870-9352-BBC3923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2EE3-09EF-43E1-A3CF-8A5E71A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7D8C8-0331-4D6B-851F-CD995BF8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3965F-77F4-4B3F-8F97-2581C90E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2E052-7248-4F94-9DD4-5FE18C53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085D2-FC40-4B13-8A0B-21ECC2C8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92410-AE2D-479F-AF1F-16BFBC99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37401-F91D-4BED-AC57-DB174AA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41FC7-0C6C-46E8-954A-1702DF40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CB3A0-55E0-4D5F-B8E6-8C137FB7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B3921-209B-4ED2-8FF9-C0B6FD3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D1299-3BDD-40C7-AEF5-1F12955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E06B-32F4-4501-8880-F063AD7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A6369-4D98-4B93-83A2-BCB2294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8637D-E0A4-4FCF-97CA-A2B34A55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47364-12FA-472E-94B5-7A4FF1A6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9C7B1-6A7F-4C19-AA34-13843E92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017F2-EC89-4D76-AAB1-EC0A957F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44C9B-1533-4945-8B42-975EC99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01971-2C53-4FFE-AB40-0865A13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742FD-2384-4AF7-B0ED-E6B00B37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5CD59-7882-4ACE-A5DA-3A5B839D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D280D-B74F-46D1-B248-657457B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B4B-34EA-468B-B0AA-8372953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D878-0763-41D7-86DF-C11C46A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E5E63-5217-4774-B567-D7D9B4D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D94A8-0853-44CF-A26C-3FFADDD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7CB4A-DA01-4EAD-A3ED-4D13A793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C2242-5A1F-42EC-A8AC-1DF22198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DD3D9-F449-47BD-AD07-1DB3C652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60683-2449-4789-840B-76902279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F79F5-7B9C-4CEA-9FCE-6F013378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33C06-504A-4E0A-93C2-75CACEC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D0B28-FA54-41D4-BF0B-ED41504A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F8700-6418-4B0D-B39F-8FEA181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7522-A594-4330-8902-71708103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15530-32D5-42EA-A6BF-CB15AA0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4E00B-583E-42DF-909E-9C8C136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7406A-C34E-425F-905C-118E49A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516D7-BDE0-48CC-A028-23B16CE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A4C8F-1FFC-4BCE-BAB8-BC869B8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9B79E-3948-4D9E-9371-EFBADE94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91049-A149-4DF2-81AA-A558FC54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A6E948-C25C-47FC-8484-D8C983DC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8980D-F434-42BA-A1E3-CB98A50E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1D3F5-4FEF-4B68-A35E-CD0D3024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5E6A-D14C-4F3B-AAD5-52627178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B7F87-863B-41D1-933F-16A3449F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57965-523B-4430-8AC7-FD802DB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6D994-3555-4514-B1B7-22CF7A9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DF535-7862-488A-89B4-71C75C5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C5B93-34C8-4DA5-A7D2-672D49C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283CE-16EC-4908-9052-4022BA1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351EE-2B1E-4044-800F-4ABF8F58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94CFA-EFC8-4193-814D-F89E4BB2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986E1-6937-42F0-A1DD-5FB4E72E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8D2CE-54EA-4FE1-9969-27312150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14D-D721-4F11-B3D6-36628220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43834-FF43-4DCF-AE3F-C8A9AF17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B74B6-54BD-40E2-84F9-D8DBEC68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705FC-71C6-4C11-958F-9DB06AC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BF508-8E11-4537-8E42-F9D0F62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0520B-6706-4055-8D2B-DEBD045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6228F-3009-49E5-94EB-031EBB37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83F38-F22E-41D2-8B31-A85910D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64CB5-4E24-456A-8C3B-11D7C2C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F78BE-9B17-4826-9917-094056D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0F582-A136-488E-B8C9-5D0DBA97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A1B0-2535-499E-A8E4-A347138E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82DB0-5610-48EF-9EB8-A810BADE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076F4-45AE-4BFB-BBB6-7F7C067E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240BE-39A1-4C3F-A4B8-B8D8D46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E6993-5984-49B3-A229-6F4831F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550A1-CF0D-4231-AE6F-F61F3DB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C37E17-0830-465D-97A8-504DB92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9276F-F860-44E1-B5BC-E6A6B8C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97B8F-01C9-420B-8899-71315F8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D4705-8C4F-4ED1-B834-0783381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ECD4C-1E2B-4C21-B557-B78E937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323C-8CB1-493F-B7DF-C29CC71B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C639B2-4CF9-4062-AF8D-38FA965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A03D9-D0F5-4BA6-92C4-5138BAA9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8BC08-D6DB-4337-8B30-BE773346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CD6FE0-4CE5-4E14-BC88-6DE5FEDC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94EB4-C19C-4F89-90FF-7EB1112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007640-813D-4941-BCD3-27D42E3F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D7BFC7-8BBD-4A92-8CCF-B4AB406E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85C9D-128C-45F8-98A5-0424DE8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3DF23-A46A-49D8-8E95-B40DDF0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8EEA7-A5D9-4D6A-A57E-4EB3A0F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B5E0-357F-41C0-B59D-0DD5CC7D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A6065-6C97-4B68-A90A-4CDBF8BD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0ABAFF-6472-42C8-AC27-5B4B536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69666-59E4-4685-8E27-78FB547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F037C0-A262-4282-8988-B250727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31A220-BBF0-4AB4-81C8-70A0AFD3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7A841-B7C5-4D55-9175-02678FF4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56AC3-0B8A-4D53-89AC-88BAAB68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4899CD-DA6D-45CD-8E0E-682DEDB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2A45B-CEB4-4D74-9381-71A3EE5B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C34D6-E9B3-4E5B-9963-CFD3D743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91C7-507D-402C-8BA4-6F7130B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75FFF8-E91E-4543-B5EB-899D3D33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62768A-AAB7-45CC-AEE7-3A1400D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0178D-C94D-4C52-911D-C89DD3B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243791-7839-464F-8604-3071696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7DC753-0E83-4E33-A94B-DC513FF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0565C-33E7-4161-A598-0252B586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439EF-6B46-4BA0-9F3C-B7B0A2E9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F053-56FB-4565-871A-1309315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05B7-F5E3-4D67-B8B9-AF7B443B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D8F-01AD-4FA5-8533-6815B329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54C2-354E-4D1B-A109-C2A67E5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AA58-20F8-4902-BE11-E9C8EC3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01E4-0454-438A-8E44-511EBA5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2012-523A-4CF0-AFE1-51334AD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1BE9-1744-49E6-B5F4-B658376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A2DA-36A4-460F-BB7F-AC84D336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F2DA-2A10-4D6F-A3D4-6221B724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5790-7468-42F7-AEAD-C8463D53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BAEA-A09F-47B8-9A30-15DDF0EB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CF2C-70FA-4293-89D2-57C0BCA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468-104E-4CFF-A49F-E2CB3579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CF38-BD6D-4876-B5CF-2EA94804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1D41-5DD3-4CB9-819E-E7E4D86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6730-7D12-4517-A236-790A518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855D-DDC7-42C1-9544-4684AB8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BF7B-80E2-4921-8D01-2D51581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5233-085E-42A6-B911-0498F9C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EC72-64EA-49A6-9CE0-43786F8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28F3-DD7F-4CA1-95B1-33340AFA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D337-709E-4079-ACA8-034DDF2D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2AB7-768B-4D77-8215-A34CD8E7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BBB-9B5D-4696-A17B-B26FCEE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E342-0609-4F8D-AACA-D9A508F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41BC-66EE-49C4-92EA-ABAEA595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1E20-E7A0-4BEF-BED7-7D237FF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C5F03-11C5-4E27-BB4E-557BF0FA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CF1B7-4324-42CF-A6A1-30A98D1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7112-BF82-4A6E-975A-96603E8D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61E7-8C51-41B4-856C-884B465A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7F71-0000-44E9-92A7-F2A3CFE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8CD2-D3B4-4C6E-9254-333A0771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044A-D521-4FD0-98FC-34DA10B8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A25-10EE-46B6-9774-BD41D157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7E29-91D0-46AC-BB76-2A424063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13DA-55FF-4529-AB64-D2E09B63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FAA4-8FCC-4496-BA48-C5D5317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D2283-F153-46F1-9A08-0EBDC973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693B-472A-4B0D-A6E9-BD188085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03EBD-FF62-40BD-927A-678ACDB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37CB-7A8B-445F-8BCF-D8EDA0B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5DA26-1F84-45ED-81DE-AAB9C79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46DB5-4DC9-40AC-8D1F-62E58158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3AF8-C4A2-4DAF-8A2C-F179355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9E0-1138-412D-A9E3-08EA0E3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B007-6AA7-4B22-A939-086AEADB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F50B-0809-4607-A63F-5CB390A3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713A-A5E1-4AF5-8840-9C295E30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DA8D-555C-466C-9DA6-86E20760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68098-0306-43F3-83F0-6185E94E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EFCA-6FDB-4DF7-BBCE-C03C5A30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1D59E-D764-4F2C-80DE-9550E02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95AB-1974-4672-A860-5AFA8EAC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55C29-E9F0-45A5-8B72-329662D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B35A2-1E78-49E8-AA64-CED9F68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3CD-E124-41AF-AD47-4879D730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9C0D-E574-40C4-A993-86D9E58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0FA2-7376-4D9E-A7D7-74232A3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9809-C7F1-4872-900D-1BB9653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CE6C-7360-4C4A-9255-7004682D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0806-4B6A-455D-97F3-14BD7DEC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80362-B101-4F3E-AE16-C32E400E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1C7C8-15F5-4873-A326-3236538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D09C-63A3-47CF-AB47-833E645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B968-26EA-4EE6-B745-1B8AC780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62B3B-727A-4F4E-95C7-D1B923F2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C49-AC6C-43A0-90BC-2B63192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0AC9-2688-43CD-A396-D767586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E839-ED65-4F53-9264-9368DEE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9E289-62F8-4ECE-8010-61F205E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8506E-B525-4071-A163-8A1A646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C5CF0-3288-422A-987D-C6180DE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4DE94-B836-41E0-BEE2-CEE65F82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5CB9-5128-4AC8-8D44-70D47215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C5AE7-2229-4D23-9338-406AFEFD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273D5-8011-4F6E-953A-E5F81CF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C0303-AEBD-49F6-B33E-394F94C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D0F7-74B8-45B7-BA1F-F0A131298C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7852-7E77-4DB2-8FE8-8AC2788DE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ABF0-C7B7-488B-BA11-EB9DAA2FB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D32A-4AF6-438D-9CB2-4155EA60F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DDD-CF16-4204-872F-391307891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50FC-3CAD-4678-B5A0-E3489218D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621B-BAF5-4F0C-8A9C-D73A5BB31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55A-ADB8-4EDA-A849-24BD355FE7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ECF-9061-4558-B514-CBEB4CA45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3BB-4ED0-4B1C-A14D-74FA25D65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D30-3A58-4444-B559-1972557E3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419-2CDC-4001-8DC2-B394FFCF9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006-B2AA-4A33-8153-79F14C944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2B43-11C6-4A83-A6FF-7B26A0889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08EB-763A-4E98-8848-9D5F21D6D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CCAA-90C0-40C2-AEB5-284E61BBA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326-DECB-4E07-8B0A-678E7F82F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65F5-6461-4F8A-824D-B9B46CA50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E3F-C209-48EB-9C9D-26FF15780A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E9D-EEB0-4426-96A9-F977653544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4172-307E-48F1-895E-94581661C3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538-A7C2-471D-97D6-14166694B1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4BA-A67E-45AE-B36D-BDEF50EE8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6CBE-AB2A-4105-93A1-7D796EC60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35C3-01DF-41CA-8FFF-9558DBD53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FEE3-7B69-4A94-BD8E-A1BEA8316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A972-372C-4F96-AA7B-FB156C524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7F69-AE22-49B0-A690-3E3F2BB4C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B4C-19C4-4328-BB8F-DC7196103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E9CA-4D62-4DA2-8993-2AE9A7943E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F1F-3593-4FF0-A56F-2618D5495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3F24-0A21-47B2-A44F-0435BE8115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7D9-A0FC-434C-B237-FF27DEADCB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A29C-42B7-4D4B-9215-EFEE02650D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34C5-6DAF-402B-AF08-9605F82F5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0AA4-7E02-402E-9DB1-83A4B9ABE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0373-A8CB-4E58-84F0-FB1423AAE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709-F8BC-4268-AC84-A350F4835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9144-1973-4DB3-A20A-34B74FE397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9967-76D6-4471-85FA-FD94CC400A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3B5-DCAD-4198-9DF8-CE42CE1F8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FD66-CDED-467A-99C1-2FC9336A4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3840" y="2925720"/>
            <a:ext cx="8896320" cy="25909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1762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57240" y="922320"/>
            <a:ext cx="9029520" cy="55148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5"/>
          <a:stretch/>
        </p:blipFill>
        <p:spPr>
          <a:xfrm>
            <a:off x="395280" y="558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6"/>
          <a:stretch/>
        </p:blipFill>
        <p:spPr>
          <a:xfrm>
            <a:off x="395280" y="6021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图片 1" descr=""/>
          <p:cNvPicPr/>
          <p:nvPr/>
        </p:nvPicPr>
        <p:blipFill>
          <a:blip r:embed="rId1"/>
          <a:stretch/>
        </p:blipFill>
        <p:spPr>
          <a:xfrm>
            <a:off x="343080" y="2247840"/>
            <a:ext cx="8458200" cy="23623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2"/>
          <a:stretch/>
        </p:blipFill>
        <p:spPr>
          <a:xfrm>
            <a:off x="684360" y="2247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5"/>
          <a:stretch/>
        </p:blipFill>
        <p:spPr>
          <a:xfrm>
            <a:off x="684360" y="378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6"/>
          <a:stretch/>
        </p:blipFill>
        <p:spPr>
          <a:xfrm>
            <a:off x="684360" y="422100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719280" y="484200"/>
            <a:ext cx="7534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357120" y="971640"/>
            <a:ext cx="8427960" cy="558936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4"/>
          <a:stretch/>
        </p:blipFill>
        <p:spPr>
          <a:xfrm>
            <a:off x="611280" y="57340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图片 1" descr=""/>
          <p:cNvPicPr/>
          <p:nvPr/>
        </p:nvPicPr>
        <p:blipFill>
          <a:blip r:embed="rId1"/>
          <a:stretch/>
        </p:blipFill>
        <p:spPr>
          <a:xfrm>
            <a:off x="318960" y="2647800"/>
            <a:ext cx="8504280" cy="15624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92160" y="858960"/>
            <a:ext cx="8961480" cy="57988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3"/>
          <a:stretch/>
        </p:blipFill>
        <p:spPr>
          <a:xfrm>
            <a:off x="46836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图片 1" descr=""/>
          <p:cNvPicPr/>
          <p:nvPr/>
        </p:nvPicPr>
        <p:blipFill>
          <a:blip r:embed="rId1"/>
          <a:stretch/>
        </p:blipFill>
        <p:spPr>
          <a:xfrm>
            <a:off x="414360" y="1876320"/>
            <a:ext cx="8313840" cy="31053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图片 1" descr=""/>
          <p:cNvPicPr/>
          <p:nvPr/>
        </p:nvPicPr>
        <p:blipFill>
          <a:blip r:embed="rId1"/>
          <a:stretch/>
        </p:blipFill>
        <p:spPr>
          <a:xfrm>
            <a:off x="92160" y="743040"/>
            <a:ext cx="8770680" cy="350352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2" descr=""/>
          <p:cNvPicPr/>
          <p:nvPr/>
        </p:nvPicPr>
        <p:blipFill>
          <a:blip r:embed="rId2"/>
          <a:stretch/>
        </p:blipFill>
        <p:spPr>
          <a:xfrm>
            <a:off x="130320" y="4309920"/>
            <a:ext cx="8885160" cy="19432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4"/>
          <a:stretch/>
        </p:blipFill>
        <p:spPr>
          <a:xfrm>
            <a:off x="1547640" y="22622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5"/>
          <a:stretch/>
        </p:blipFill>
        <p:spPr>
          <a:xfrm>
            <a:off x="4356000" y="26510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6"/>
          <a:stretch/>
        </p:blipFill>
        <p:spPr>
          <a:xfrm>
            <a:off x="6300720" y="38037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图片 1" descr=""/>
          <p:cNvPicPr/>
          <p:nvPr/>
        </p:nvPicPr>
        <p:blipFill>
          <a:blip r:embed="rId1"/>
          <a:stretch/>
        </p:blipFill>
        <p:spPr>
          <a:xfrm>
            <a:off x="666720" y="1157400"/>
            <a:ext cx="7810560" cy="4543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图片 1" descr=""/>
          <p:cNvPicPr/>
          <p:nvPr/>
        </p:nvPicPr>
        <p:blipFill>
          <a:blip r:embed="rId1"/>
          <a:stretch/>
        </p:blipFill>
        <p:spPr>
          <a:xfrm>
            <a:off x="490680" y="1166760"/>
            <a:ext cx="8161200" cy="452448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2"/>
          <a:stretch/>
        </p:blipFill>
        <p:spPr>
          <a:xfrm>
            <a:off x="3780000" y="2908440"/>
            <a:ext cx="863280" cy="3492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3"/>
          <a:stretch/>
        </p:blipFill>
        <p:spPr>
          <a:xfrm>
            <a:off x="3564000" y="3298680"/>
            <a:ext cx="1152360" cy="3495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4"/>
          <a:stretch/>
        </p:blipFill>
        <p:spPr>
          <a:xfrm>
            <a:off x="7020000" y="407664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5"/>
          <a:stretch/>
        </p:blipFill>
        <p:spPr>
          <a:xfrm>
            <a:off x="2166840" y="4883040"/>
            <a:ext cx="115272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6"/>
          <a:stretch/>
        </p:blipFill>
        <p:spPr>
          <a:xfrm>
            <a:off x="2556000" y="5284800"/>
            <a:ext cx="1152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03320" y="758880"/>
            <a:ext cx="2589120" cy="59040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03320" y="1522440"/>
            <a:ext cx="8732880" cy="52293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6319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2340000" y="630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4067280" y="630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5796000" y="63230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7451640" y="63230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图片 2" descr=""/>
          <p:cNvPicPr/>
          <p:nvPr/>
        </p:nvPicPr>
        <p:blipFill>
          <a:blip r:embed="rId1"/>
          <a:stretch/>
        </p:blipFill>
        <p:spPr>
          <a:xfrm>
            <a:off x="571680" y="695160"/>
            <a:ext cx="8001000" cy="609444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2"/>
          <a:stretch/>
        </p:blipFill>
        <p:spPr>
          <a:xfrm>
            <a:off x="2987640" y="51721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3"/>
          <a:stretch/>
        </p:blipFill>
        <p:spPr>
          <a:xfrm>
            <a:off x="3276720" y="63658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图片 1" descr=""/>
          <p:cNvPicPr/>
          <p:nvPr/>
        </p:nvPicPr>
        <p:blipFill>
          <a:blip r:embed="rId1"/>
          <a:stretch/>
        </p:blipFill>
        <p:spPr>
          <a:xfrm>
            <a:off x="814320" y="1654200"/>
            <a:ext cx="4046760" cy="23241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2" descr=""/>
          <p:cNvPicPr/>
          <p:nvPr/>
        </p:nvPicPr>
        <p:blipFill>
          <a:blip r:embed="rId2"/>
          <a:stretch/>
        </p:blipFill>
        <p:spPr>
          <a:xfrm>
            <a:off x="936720" y="4060800"/>
            <a:ext cx="5341680" cy="38088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3"/>
          <a:stretch/>
        </p:blipFill>
        <p:spPr>
          <a:xfrm>
            <a:off x="2916360" y="1989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4"/>
          <a:stretch/>
        </p:blipFill>
        <p:spPr>
          <a:xfrm>
            <a:off x="2411280" y="31845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5"/>
          <a:stretch/>
        </p:blipFill>
        <p:spPr>
          <a:xfrm>
            <a:off x="1979640" y="357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图片 1" descr=""/>
          <p:cNvPicPr/>
          <p:nvPr/>
        </p:nvPicPr>
        <p:blipFill>
          <a:blip r:embed="rId1"/>
          <a:stretch/>
        </p:blipFill>
        <p:spPr>
          <a:xfrm>
            <a:off x="181080" y="674640"/>
            <a:ext cx="88754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1" descr=""/>
          <p:cNvPicPr/>
          <p:nvPr/>
        </p:nvPicPr>
        <p:blipFill>
          <a:blip r:embed="rId1"/>
          <a:stretch/>
        </p:blipFill>
        <p:spPr>
          <a:xfrm>
            <a:off x="190440" y="2443320"/>
            <a:ext cx="8763120" cy="197136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2"/>
          <a:stretch/>
        </p:blipFill>
        <p:spPr>
          <a:xfrm>
            <a:off x="900000" y="27939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3"/>
          <a:stretch/>
        </p:blipFill>
        <p:spPr>
          <a:xfrm>
            <a:off x="3924360" y="278136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4"/>
          <a:stretch/>
        </p:blipFill>
        <p:spPr>
          <a:xfrm>
            <a:off x="6804000" y="27957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5"/>
          <a:stretch/>
        </p:blipFill>
        <p:spPr>
          <a:xfrm>
            <a:off x="971640" y="319716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6"/>
          <a:stretch/>
        </p:blipFill>
        <p:spPr>
          <a:xfrm>
            <a:off x="3995640" y="31971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7"/>
          <a:stretch/>
        </p:blipFill>
        <p:spPr>
          <a:xfrm>
            <a:off x="6875640" y="3198960"/>
            <a:ext cx="1728720" cy="3492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8"/>
          <a:stretch/>
        </p:blipFill>
        <p:spPr>
          <a:xfrm>
            <a:off x="900000" y="358632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9"/>
          <a:stretch/>
        </p:blipFill>
        <p:spPr>
          <a:xfrm>
            <a:off x="3924360" y="358632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10"/>
          <a:stretch/>
        </p:blipFill>
        <p:spPr>
          <a:xfrm>
            <a:off x="6804000" y="35877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11"/>
          <a:stretch/>
        </p:blipFill>
        <p:spPr>
          <a:xfrm>
            <a:off x="826920" y="3962520"/>
            <a:ext cx="1440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图片 1" descr=""/>
          <p:cNvPicPr/>
          <p:nvPr/>
        </p:nvPicPr>
        <p:blipFill>
          <a:blip r:embed="rId1"/>
          <a:stretch/>
        </p:blipFill>
        <p:spPr>
          <a:xfrm>
            <a:off x="138240" y="100080"/>
            <a:ext cx="8866080" cy="665784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2"/>
          <a:stretch/>
        </p:blipFill>
        <p:spPr>
          <a:xfrm>
            <a:off x="3635280" y="3645000"/>
            <a:ext cx="532944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3"/>
          <a:stretch/>
        </p:blipFill>
        <p:spPr>
          <a:xfrm>
            <a:off x="179280" y="404820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4"/>
          <a:stretch/>
        </p:blipFill>
        <p:spPr>
          <a:xfrm>
            <a:off x="150840" y="443700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5"/>
          <a:stretch/>
        </p:blipFill>
        <p:spPr>
          <a:xfrm>
            <a:off x="142920" y="482616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6"/>
          <a:stretch/>
        </p:blipFill>
        <p:spPr>
          <a:xfrm>
            <a:off x="114480" y="521496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7"/>
          <a:stretch/>
        </p:blipFill>
        <p:spPr>
          <a:xfrm>
            <a:off x="136440" y="5618160"/>
            <a:ext cx="878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328680" y="1347840"/>
            <a:ext cx="8485200" cy="4162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611280" y="378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684360" y="5157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333360" y="860400"/>
            <a:ext cx="8477280" cy="545796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1708200" y="6396120"/>
            <a:ext cx="4084560" cy="352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1128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414360" y="2995560"/>
            <a:ext cx="8313840" cy="866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14480" y="1461960"/>
            <a:ext cx="8915400" cy="3934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5435640" y="2593800"/>
            <a:ext cx="1224000" cy="3495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5435640" y="312732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4284720" y="4811760"/>
            <a:ext cx="718920" cy="3492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6516720" y="4811760"/>
            <a:ext cx="7192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62000" y="654120"/>
            <a:ext cx="8820000" cy="6114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539640" y="16858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539640" y="4869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6"/>
          <a:stretch/>
        </p:blipFill>
        <p:spPr>
          <a:xfrm>
            <a:off x="46836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114480" y="390600"/>
            <a:ext cx="8915400" cy="63910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5"/>
          <a:stretch/>
        </p:blipFill>
        <p:spPr>
          <a:xfrm>
            <a:off x="395280" y="40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6"/>
          <a:stretch/>
        </p:blipFill>
        <p:spPr>
          <a:xfrm>
            <a:off x="39528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163440" y="984240"/>
            <a:ext cx="8723520" cy="156204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" descr=""/>
          <p:cNvPicPr/>
          <p:nvPr/>
        </p:nvPicPr>
        <p:blipFill>
          <a:blip r:embed="rId2"/>
          <a:stretch/>
        </p:blipFill>
        <p:spPr>
          <a:xfrm>
            <a:off x="249120" y="2598840"/>
            <a:ext cx="8190000" cy="39034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4"/>
          <a:stretch/>
        </p:blipFill>
        <p:spPr>
          <a:xfrm>
            <a:off x="39528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5"/>
          <a:stretch/>
        </p:blipFill>
        <p:spPr>
          <a:xfrm>
            <a:off x="539640" y="2565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6"/>
          <a:stretch/>
        </p:blipFill>
        <p:spPr>
          <a:xfrm>
            <a:off x="46836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7"/>
          <a:stretch/>
        </p:blipFill>
        <p:spPr>
          <a:xfrm>
            <a:off x="539640" y="4869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2:0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